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5053-EEFB-460F-AE12-41162812B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66D6-620A-445A-B47E-95155CEF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516C-6E99-4C1D-B2D6-1304F1AEA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C20B-2C0E-409E-84C3-737059120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D169-6CF0-40DD-AA0B-E0536D20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0BC2-DDC2-4E8D-8C87-7BC5644E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653B-F831-4528-9EE6-8CFE57F1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02C9-27EB-4B68-AFA3-02DD3A8F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CCA6-2F44-4550-9CBC-29DF8F47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26C6-2C7B-4C17-A6A8-0B97CFE8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7661-AC39-47F0-8C11-79A23A7D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DA75-86CB-4BE1-B592-5B72DBC4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6359-0FD7-4A18-9E16-7AD8BCB226F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39640" y="209520"/>
            <a:ext cx="813600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83534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يونس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سورة يونس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نبي الله يونس عليه السلام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يون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09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يون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الإسراء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3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ثبات النبوة والبع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>
            <a:off x="8820000" y="1662120"/>
            <a:ext cx="0" cy="214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ثبات التوحيد 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دعوة للإيمان بالرسالات السماو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ذكر قصة يونس عليه ال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نجاة قوم يونس لما آمنو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3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3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18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3T20:49:25Z</dcterms:modified>
  <cp:revision>1788</cp:revision>
  <dc:subject/>
  <dc:title>عرض تقديمي في PowerPoint</dc:title>
</cp:coreProperties>
</file>